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62A2-0CE3-4CA7-A3D6-CD2B2D7EF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 going to begin today's presentation with a s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young woman from Guatemala was kidnapped and brought to Florida by a Guatemalan native.  He forced the girl to work long, grueling days in tomato fields and then forced her to have sex with him at night.  Upon discovering the two together, his wife became enraged.  The man, in turn, physically assaulted his wife, who then called the police.  Local law enforcement initially treated the case as a domestic violence situation, but wondered why a young, non-English-speaking woman was cowering in a corner of the room.  Suspecting that she could be a trafficking victim, they took her to a local domestic violence shelte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an is currently serving a nine-year prison sentence for kidnapping, immigration violations, slavery and conspiracy to manufacture false documents.  The young woman became one of the first trafficking victims to be granted a T visa through the Trafficking Victims Protection Act of 2000, allowing her to stay in the United States.  You will learn more about this law and how it helps trafficking victims later on in this present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at would have happened to the young Guatemalan woman had the police not looked beneath the surface of this situation that may have appeared to be a typical case of domestic viole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cause there is a Federal law that prosecutes against crimes involving the trafficking of humans, it is often assumed that all crimes of human trafficking are prosecuted at the Federal level, and therefore, there is no role or stake for state or local law enforcement.  [We will review this law shortly, which is the Trafficking Victims Protection A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ring the course of committing trafficking crimes, traffickers frequently commit state crimes such as murder, kidnapping, battery, assault, sexual battery and false imprisonme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est way to successfully prosecute a human trafficking case is through a collaboration between local law enforcement, Federal authorities and social service providers</a:t>
            </a:r>
            <a:r>
              <a:rPr b="0" lang="en-US" sz="1000" spc="-1" strike="noStrike">
                <a:solidFill>
                  <a:srgbClr val="000000"/>
                </a:solidFill>
                <a:latin typeface="Arial"/>
              </a:rPr>
              <a:t>.  Of course, this isn’t the only way, but the Feds and social services will eventually have to get involved anyway, so to proactively involve them is a more effective strateg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local law enforcement officers, you play an essential role in prosecuting traffickers. You may be the first officer to encounter potential victims of trafficking at the scene of a crim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 just mentioned, as local law enforcement officers, you play an essential role in prosecuting traffickers.  You may be the first officer to encounter potential victims of human trafficking at the scene of the cri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ten times, </a:t>
            </a:r>
            <a:r>
              <a:rPr b="0" lang="en-US" sz="1000" spc="-1" strike="noStrike">
                <a:solidFill>
                  <a:srgbClr val="000000"/>
                </a:solidFill>
                <a:latin typeface="Arial"/>
                <a:ea typeface="Arial"/>
              </a:rPr>
              <a:t>persons identified/encountered in criminal investigations are assumed to be criminals (willing participants of the crime), not victi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are often arrested under the assumption they are criminals or illegal immigrants willingly smuggled into the United St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I mentioned earlier, it’s important as law enforcement officers that you look beneath the surface of those you encounter or arrest.  Doing so might reveal you’re actually dealing with victims of human traffick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may have difficulties distinguishing between perpetrators and victims when coming upon crime scenes.  Later on in the presentation, we will discuss strategies to identify victims of human trafficking and how to manage them first as victims, then as witness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w that we’ve talked about what human trafficking is and have discussed the myths and realities associated with human trafficking, I want to provide you with an overview of the law that was passed in 2000 to solidify human trafficking as a Federal crime with strict penalties for perpetrators convicted of the crime, and benefits and services for victims of the cri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TVPA was enacted to deter human trafficking – the fastest growing source of profits for organized crime worldwi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fer to the slide for overview of the VTPA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law authorizes </a:t>
            </a:r>
            <a:r>
              <a:rPr b="1" lang="en-US" sz="1000" spc="-1" strike="noStrike">
                <a:solidFill>
                  <a:srgbClr val="000000"/>
                </a:solidFill>
                <a:latin typeface="Arial"/>
                <a:ea typeface="Arial"/>
              </a:rPr>
              <a:t>prevention</a:t>
            </a:r>
            <a:r>
              <a:rPr b="0" lang="en-US" sz="1000" spc="-1" strike="noStrike">
                <a:solidFill>
                  <a:srgbClr val="000000"/>
                </a:solidFill>
                <a:latin typeface="Arial"/>
                <a:ea typeface="Arial"/>
              </a:rPr>
              <a:t> efforts that include public awareness and education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ection</a:t>
            </a:r>
            <a:r>
              <a:rPr b="0" lang="en-US" sz="1000" spc="-1" strike="noStrike">
                <a:solidFill>
                  <a:srgbClr val="000000"/>
                </a:solidFill>
                <a:latin typeface="Arial"/>
                <a:ea typeface="Arial"/>
              </a:rPr>
              <a:t> and assistance for victims of trafficking under the law includes legal assistance and interpretation, job training and counseling programs.  The TVPA establishes a new visa status, the </a:t>
            </a:r>
            <a:r>
              <a:rPr b="1" lang="en-US" sz="1000" spc="-1" strike="noStrike">
                <a:solidFill>
                  <a:srgbClr val="000000"/>
                </a:solidFill>
                <a:latin typeface="Arial"/>
                <a:ea typeface="Arial"/>
              </a:rPr>
              <a:t>T visa</a:t>
            </a:r>
            <a:r>
              <a:rPr b="0" lang="en-US" sz="1000" spc="-1" strike="noStrike">
                <a:solidFill>
                  <a:srgbClr val="000000"/>
                </a:solidFill>
                <a:latin typeface="Arial"/>
                <a:ea typeface="Arial"/>
              </a:rPr>
              <a:t>, which allows victims of severe forms of trafficking to become temporary residents of the United States.  The T visa signifies a shift in the immigration law policy, which previously treated victims of trafficking as illegal aliens subject to deportation.  The T visa is a critical tool as it will help keep victims in the United States legally so they can cooperate with you and serve as witnesses for the prosecu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law enforcement efforts are now available through the law, making it easier to </a:t>
            </a:r>
            <a:r>
              <a:rPr b="1" lang="en-US" sz="1000" spc="-1" strike="noStrike">
                <a:solidFill>
                  <a:srgbClr val="000000"/>
                </a:solidFill>
                <a:latin typeface="Arial"/>
                <a:ea typeface="Arial"/>
              </a:rPr>
              <a:t>prosecute</a:t>
            </a:r>
            <a:r>
              <a:rPr b="0" lang="en-US" sz="1000" spc="-1" strike="noStrike">
                <a:solidFill>
                  <a:srgbClr val="000000"/>
                </a:solidFill>
                <a:latin typeface="Arial"/>
                <a:ea typeface="Arial"/>
              </a:rPr>
              <a:t> traffickers who are identified and convicted of trafficking offenses, which I will talk about more on the next sli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law makes victims of severe forms of trafficking eligible for </a:t>
            </a:r>
            <a:r>
              <a:rPr b="1" lang="en-US" sz="1000" spc="-1" strike="noStrike">
                <a:solidFill>
                  <a:srgbClr val="000000"/>
                </a:solidFill>
                <a:latin typeface="Arial"/>
                <a:ea typeface="Arial"/>
              </a:rPr>
              <a:t>benefits and services</a:t>
            </a:r>
            <a:r>
              <a:rPr b="0" lang="en-US" sz="1000" spc="-1" strike="noStrike">
                <a:solidFill>
                  <a:srgbClr val="000000"/>
                </a:solidFill>
                <a:latin typeface="Arial"/>
                <a:ea typeface="Arial"/>
              </a:rPr>
              <a:t> under Federal or state programs once they become </a:t>
            </a:r>
            <a:r>
              <a:rPr b="1" lang="en-US" sz="1000" spc="-1" strike="noStrike">
                <a:solidFill>
                  <a:srgbClr val="000000"/>
                </a:solidFill>
                <a:latin typeface="Arial"/>
                <a:ea typeface="Arial"/>
              </a:rPr>
              <a:t>certified</a:t>
            </a:r>
            <a:r>
              <a:rPr b="0" lang="en-US" sz="1000" spc="-1" strike="noStrike">
                <a:solidFill>
                  <a:srgbClr val="000000"/>
                </a:solidFill>
                <a:latin typeface="Arial"/>
                <a:ea typeface="Arial"/>
              </a:rPr>
              <a:t> by the U.S. Department of Health and Human Services.  Once certified, trafficking victims will be eligible to apply for benefits and services under any Federal or state funded programs, to the same extent as refugees.  Certified victims are also eligible for refugee cash, medical assistance and social servic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under 18 years of age do not need to be certified in order to be eligible for benefits and services.  For these victims, the Department of Health and Human Services issues a “Letter of Eligibility” so that they have proof of eligibility for federally funded and administered benefit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human trafficking who are </a:t>
            </a:r>
            <a:r>
              <a:rPr b="1" lang="en-US" sz="1000" spc="-1" strike="noStrike">
                <a:solidFill>
                  <a:srgbClr val="000000"/>
                </a:solidFill>
                <a:latin typeface="Arial"/>
                <a:ea typeface="Arial"/>
              </a:rPr>
              <a:t>non-U.S. citizens</a:t>
            </a:r>
            <a:r>
              <a:rPr b="0" lang="en-US" sz="1000" spc="-1" strike="noStrike">
                <a:solidFill>
                  <a:srgbClr val="000000"/>
                </a:solidFill>
                <a:latin typeface="Arial"/>
                <a:ea typeface="Arial"/>
              </a:rPr>
              <a:t> are eligible to receive benefits and services through the TVPA to the same extent as refugees. Victims who are U.S. citizens, do not need to be certified by HHS and are already eligible to receive many of these benefit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VPA imposes stricter sentences on those convicted of committing crimes of human traffick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example, if a trafficking crime results in death or if the crime includes kidnapping, an attempted kidnapping, aggravated sexual abuse, attempted aggravated sexual abuse, or an attempt to kill, the trafficker could be sentenced to life in prison.  Traffickers who exploit children (under the age of 14) using force, fraud or coercion, for the purpose of sex trafficking can be imprisoned for life. If the victim was a child between the age of 14 and 18 and the sex trafficking did not involve force, fraud or coercion, the trafficker could receive up to 20 years in pris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reover, the law addresses the subtle means of coercion used by traffickers to bind their victims into servitude, including: psychological coercion, trickery, and the seizure of documents, activities which were difficult to prosecute under preexisting involuntary servitude statutes and case law.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ways for you to use the TVPA to prosecute crimes associated with human trafficking at the state and local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trafficking crimes involving [Refer to list on slide] can be prosecuted locally.</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December, the President signed the Trafficking Victims Reauthorization Act, which authorized more than $200 million to combat the issue of human trafficking, particularly of women and children forced into prostit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PRA provides fresh resources to assist victims of trafficking and even further strengthens the law enforcement tools designed in the original law:</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PRA adds human trafficking to the list of racketeering offenses covered under the Federal Racketeer Influenced and Corrupt Organizations Act (RICO Statute) and allows trafficking victims to sue their captors in Federal courts.</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meeting the President’s challenge to combat human trafficking, it’s important for you as law enforcement officers to approach these crimes differently from the ways you might approach other criminal investig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llowing are key factors to consider when encountering situations that may involve crimes of human trafficking. [Refer to list on the sli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ten times you will be faced with the perpetrator or trafficker at the scene of a crime, who will provide you with the alleged explanations of the situation.  In these cases, it’s important for you to note some of these factors at the scene of the crime as they may indicate there are victims of human traffick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ir living conditio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you see or detect any physical abus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ir working conditio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indications of restriction (are they allowed to leave the premi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behavioral indicators of severe dependency, submissive behavior, fearful behavior in the presence of othe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s in physical possession of their legal documents of identific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nsists on providing information to law enforceme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y in the country legall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 mentioned earlier, as law enforcement officers, you are most likely to be first to the scene of a crime that involves human trafficking.  However the biggest challenge for you will be the difficulty of identifying victims of human traffick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for you to look beneath the surface of these types of crimes [Refer to list on slide] – crimes you may encounter on a daily basis – to identify victims of human traffick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I just shared was important because it brings to life the harsh realities of human trafficking, regarded by many today as modern-day slavery.  Human trafficking is the exploitation of a person for forced sex or labor.  As law enforcement officers, it’s important for you to understand what human trafficking is, and for you to be able to distinguish a victim of trafficking from a criminal because the next [prostitute, stripper, migrant worker, illegal immigrant] you bust may actually be a victim of human trafficking – not a crimin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I hope you walk away from this presentation with an understanding of why your role as law enforcement officers is critical in identifying and assisting victims of human trafficking. This presentation should provide you wit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verview of human trafficking including the Trafficking Victims Protection Act of 2000.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discuss strategies for identifying the crime of human trafficking and how to identify victims and manage them as witnes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e particular services available to a victim of traffick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discuss your role as local law enforcement officers and the importance of your role in combating human trafficking.</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ce you think you have encountered a crime scene involving human trafficking, there are other key factors you’ll need to consider when identifying potential victims and distinguishing them from the real criminals – their trafficke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person who is trafficked may look like anyone you encounter at a crime scene, but sensitively asking the right questions and looking for small clues will help you identify those people who have been fraudulently induced, forced or coerced into a life of sexual exploitation or forced labor.  Look for the following clues:  [Refer to list of clues on the sli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ou should also take into consideration victims’ cultural and social background as these traits will impact the way victims should be managed as witnesses, as well as the way the investigation of their cases is carried ou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may not be able to communicate with you because of language or cultural barrie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often have a fear of being deporte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may appear to you as a prostitute or a willing participant in the trafficker’s enterpris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frequently do not self-identify themselves as victim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may display an allegiance to their trafficker/employ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human trafficking are vulnerable human beings who have been subjected to severe physical and emotional coercion.  These trafficking victims are usually in desperate need of assistance.  Victims of human trafficking need to know that once they come in contact with law enforcement officers, they should feel protected and saf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are benefits and services available to trafficking victims.  And the TVPA authorizes special benefits and services to adult victims who are willing to cooperate in the prosecution of their traffickers and to minor victims regardless of whether they are willing to cooperate.  These benefits and services include legal, healthcare, counseling, housing, food, medical, cash and employment assistanc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HS has also created a toll-free number for law enforcement officers to call if they have identified a victim of trafficking.  By calling the Trafficking Information and Referral Hotline, 1.888.3737.888,  you can help identified victims of trafficking get this assistance, and they can help you prosecute and convict the real criminals.  For more information on human trafficking visit www.acf.hhs.gov/trafficking.</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order to transition a victim of human trafficking from a victim to a witness, there are some key points to consider and key messages you should convey.  This slide illustrates some characteristics of the victim’s mindset and offers some messages to convey to victims to reassure them they are in safe hands.</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 effective method for obtaining cooperation of a victim of human trafficking is to put their needs first.  </a:t>
            </a:r>
            <a:r>
              <a:rPr b="0" lang="en-US" sz="900" spc="-1" strike="noStrike">
                <a:solidFill>
                  <a:srgbClr val="000000"/>
                </a:solidFill>
                <a:latin typeface="Arial"/>
                <a:ea typeface="Times New Roman"/>
              </a:rPr>
              <a:t>A successful investigation and prosecution of a human trafficking case is victim-centered.  This requires lending support to traumatized and confused victims before you can gain their confidence.  </a:t>
            </a:r>
            <a:r>
              <a:rPr b="0" lang="en-US" sz="900" spc="-1" strike="noStrike">
                <a:solidFill>
                  <a:srgbClr val="000000"/>
                </a:solidFill>
                <a:latin typeface="Arial"/>
                <a:ea typeface="Arial"/>
              </a:rPr>
              <a:t>Although capturing and convicting the trafficker are top priorities, it is more strategic to put the safety, education and concerns of the victims first throughout the case investigation and prosecution.</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communication is essential in gaining trust of victims as well as defining their immediate needs.  Effective witness management extends into the courtroom when the time comes to present testimony and evidence to a jury.  F</a:t>
            </a:r>
            <a:r>
              <a:rPr b="0" lang="en-US" sz="900" spc="-1" strike="noStrike">
                <a:solidFill>
                  <a:srgbClr val="000000"/>
                </a:solidFill>
                <a:latin typeface="Arial"/>
              </a:rPr>
              <a:t>irst and foremost, you will need to keep in mind that most victims fear deportation.  Once it is revealed they do not have their legal identification, they will expect you to charge them as illegal immigrants and have them deported back to their country of origin.  While many of these victims are women and children who have been raped or beaten, their current situation may actually be better than where they came from.  Therefore, it will be important for you to convey to the victim that they are safe and that they will not be deported.</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victims of trafficking do not self-identify themselves as victims.  They assume what they are doing is just a way of life, a way to make a living.  They don’t know that what has been done to them is illegal.  </a:t>
            </a:r>
            <a:r>
              <a:rPr b="0" lang="en-US" sz="900" spc="-1" strike="noStrike">
                <a:solidFill>
                  <a:srgbClr val="000000"/>
                </a:solidFill>
                <a:latin typeface="Arial"/>
                <a:ea typeface="Arial"/>
              </a:rPr>
              <a:t>Victims may project a sense of fear or distrust toward you, which could originate from the negative perceptions of law enforcement in their countries of origin.  It’s critical for you to convey that you can protect them and help them to obtain the assistance they need.</a:t>
            </a:r>
            <a:r>
              <a:rPr b="0" lang="en-US" sz="900" spc="-1" strike="noStrike">
                <a:solidFill>
                  <a:srgbClr val="000080"/>
                </a:solidFill>
                <a:latin typeface="Arial"/>
                <a:ea typeface="Times New Roman"/>
              </a:rPr>
              <a:t>  </a:t>
            </a:r>
            <a:r>
              <a:rPr b="0" lang="en-US" sz="900" spc="-1" strike="noStrike">
                <a:solidFill>
                  <a:srgbClr val="000000"/>
                </a:solidFill>
                <a:latin typeface="Arial"/>
                <a:ea typeface="Arial"/>
              </a:rPr>
              <a:t>Most victims will generally be unaware of any rights they may have.  From their perspective, they may not think they even have the right to live.  Therefore, it’s important for you to tell them they do have rights and that they may be entitled to receive benefits and services to rebuild their lives.</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hese communication tips will help you gain the trust of the victim and will help with the transition from victim to witnes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you encounter a person who may be a victim of human trafficking, there are key questions you can ask that may help you to properly identify that person as a victim and can help you build a criminal investigation [refer to list of key questions on sli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for you as law enforcement officers to really look beneath the surface of those you encounter at crime scenes.  The next prostitute, stripper, runaway youth or illegal immigrant you encounter may actually be a victim of human trafficking, in desperate need of your help.</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ing these questions can help you make the distinction between victim and criminal.</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have a critical role in helping to identify victims of human trafficking and prosecuting their traffickers – the real criminal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that you keep doing what you’re doing.  As local law enforcement officers, you are most often the first responder or the first to encounter individuals at the scene of a crime, making your role in identifying victims and perpetrators key to building a cas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crime scenes, question potential perpetrators and potential victims, assess crime scenes and collect evidence.  But when you do all of these things, take a closer look, beneath the surface.  What you think you’re looking at may in fact be a crime scene involving victims of human trafficking.  Remember, the next prostitute, stripper runaway youth or illegal immigrant you take into custody could be a victim of human traffick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 mentioned earlier, </a:t>
            </a:r>
            <a:r>
              <a:rPr b="0" lang="en-US" sz="1000" spc="-1" strike="noStrike">
                <a:solidFill>
                  <a:srgbClr val="000000"/>
                </a:solidFill>
                <a:latin typeface="Arial"/>
                <a:ea typeface="Arial"/>
              </a:rPr>
              <a:t>there are other crimes committed by traffickers that may also be prosecuted at the state level such as violent crimes of murder, kidnapping</a:t>
            </a:r>
            <a:r>
              <a:rPr b="0" lang="en-US" sz="1000" spc="-1" strike="noStrike">
                <a:solidFill>
                  <a:srgbClr val="000000"/>
                </a:solidFill>
                <a:latin typeface="Arial"/>
                <a:ea typeface="Times New Roman"/>
              </a:rPr>
              <a:t>, b</a:t>
            </a:r>
            <a:r>
              <a:rPr b="0" lang="en-US" sz="1000" spc="-1" strike="noStrike">
                <a:solidFill>
                  <a:srgbClr val="000000"/>
                </a:solidFill>
                <a:latin typeface="Arial"/>
                <a:ea typeface="Arial"/>
              </a:rPr>
              <a:t>attery, assault</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sexual battery and false imprisonme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st often it is local law enforcement personnel who initially encounter victims of trafficking out in the field.  A successful policing strategy on the local level will incorporate cooperation with Federal authorities in the investigation and prosecution of human trafficking and will coordinate efforts with local social service providers to meet the immediate needs of the trafficking victim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you think you have come in contact with a potential victim of human trafficking, you should call 1.888.3737.888, the Trafficking Information and Referral Hotline, to further assist any victims you identify and to find out how helping those victims can help you build your case to prosecute and convict their traffickers.  For more information on human trafficking visit www.acf.hhs.gov/traffick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we conclude today’s presentation, I want to share another example of success in which victims of human trafficking were identified and helped by local law enforcement offic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talking points for case stud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 you for your taking the time to learn about this important issue and how you can help.  I would be happy to answer any questions you may have.</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trafficking is a devastating human rights violation that takes place not only internationally, but also here in the United States.  It is, indeed, a form of modern-day slaver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kers use force, fraud or coercion to enslave their victims into situations involving sexual exploitation or forced labo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trafficking is the fastest growing criminal industry in the world today, often operated by organized crime syndicat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imarily two types of human trafficking: Sex Trafficking and Labor Trafficking.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x trafficking operations occur in highly visible venues such as street prostitution, as well as more underground locations such as closed-brothel systems that operate out of residential hom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x trafficking also takes place in a variety of public and private locations such as massage parlors, spas, strip clubs and other fronts for prostitution.  Victims may start off dancing or stripping in clubs and are often coerced into more exploitative situations of prostitution and pornograph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Forced labor occurs in various forms including domestic servitude such as nannies and maids, sweatshop factories, janitorial jobs, construction sites, farm work, restaurants and panhandling.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a:rPr>
              <a:t>It is important to clarify that the crime of trafficking actually occurs when the victim is exploited for sex or forced labor – not when the victim is moved from one location to anothe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law enforcement officers, you may come in contact with victims of sex or labor trafficking but may mistake them as willing participants and either arrest them or see no reason to intervene.  The purpose of this presentation is to encourage you to look beneath the surface when encountering these types of crimes and to ask yourselves if these are actually victims forced into these situations rather than crimina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trafficking is an horrific international problem, with nearly a million victims trafficked across international borders annuall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is is not just an international problem.  Trafficking also takes place here in the United States.  The U.S. State Department estimates that between 18,000 and 20,000 victims are trafficked into this country each yea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half of those trafficked into the United States are children, although many women and men are victims as wel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trafficking victims come to the United States from Asia, Latin America, Russia, Eastern Europe and Canada (but also Africa and Indi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king victims sent to the United States typically do not speak English.  They often are unable to communicate with service providers, police, or others who might be able to help them.</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victim of trafficking is identified, it no longer matters what their purpose or intent was for coming to the United Stat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 the Trafficking Victims Protection Act of 2000, victims of trafficking can apply for special visas or receive other forms of immigration relief.</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law enforcement officers interacting with potential victims of human trafficking, it’s important for you to keep in mind where the victim is coming from and what their mindset is when they come in contact with you.</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just a few examples of the mindset of a typical victim of human trafficking [Refer to examples on the sli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victims of trafficking are forced to work in the sex trade.  However, trafficking also takes place in labor situations such as domestic servitude, sweatshop factories, or migrant agricultural work.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ffickers use force, fraud and coercion to traffic women, men and childr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the mindset of human trafficking victims, it’s easy to see why there are several myths or misconceptions associated with human trafficking.  As law enforcement officers, it’s important for you to be aware of these myths and to look beyond them to see the issue of human trafficking to help expose the real criminals, the trafficker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hough prostitution is probably the most common type of crime in which you may encounter victims of trafficking, there is an overall misconception that all prostitutes are willing participants, or even broader, that all sex trade participants are prostitut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at as participants they are proactively involved in the sex trade on their own free will.  While this may in fact be the case for some, it often times is not the case for victims of human trafficking, who are forced or coerced into the sex trade by trafficke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trafficking may be perceived as prostitutes because they often do not initially self-identify as victims.  However, if you look beneath the surface of someone you may think is a typical prostitute, you may find an innocent victim in need of help and prote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are significant differences between victims of human trafficking and migrants who are smuggled into the United States.  Again, you may be in a situation where you arrest someone on illegal immigration charges because someone cannot produce the proper documentation.  Don’t make the assumption that this person was willingly smuggled into the United States illegally and is, therefore, a criminal.  It’s important for you to look beneath the surface of that person becau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human trafficking are coerced  or fraudulently induced into trafficking while smuggling cases include those who freely and knowingly conse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human trafficking are continuously exploited for labor or commercial sex, while the act of smuggling ends when the migrants arrive at the intended destin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vement from place to place is not a requisite to the crime of trafficking.  For example, victims can be trafficked even if they are not transported from country to country.  In contrast, human smuggling involves the illegal transport of persons across international border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me victims of human trafficking travel willingly and legally to the United States with the proper documentation.  However, once they come into contact with their trafficker or “employer,” their legal documents are usually taken from them, never to be seen aga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4B304-C567-460B-AC36-C67DB18BA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D61D-328A-4141-B2E8-B689F2C63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D086F-CC43-4840-8E9B-6EC70426D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83F3F-B07D-4998-B5B6-E2852F4DE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DA05-2122-4EBC-A5FE-B947E2585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24D9-107E-4ABC-A0DB-3EF75A74C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4AB97-3E8F-4EBB-8BC4-C38F23675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1F615-B9A4-4608-B19E-D27362EA3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B4842-4B68-4777-A544-9DFBE4799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92E31-1CE8-4CB4-BC18-A67A77B35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725B-8AA4-4DC1-8646-4E75F9F0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4953E-46FC-440E-A37E-5E7F52983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0DD7-AC19-45C9-A5DF-3CA87EAE9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acf.hhs.gov/trafficking"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 Beneath the Surface:</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 of Law Enforcement Officers in Identifying and Helping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ctims of Human Trafficking</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yths Associated with </a:t>
            </a:r>
            <a:br>
              <a:rPr sz="3600"/>
            </a:br>
            <a:r>
              <a:rPr b="1" lang="en-US" sz="3600" spc="-1" strike="noStrike">
                <a:solidFill>
                  <a:srgbClr val="000000"/>
                </a:solidFill>
                <a:latin typeface="Arial"/>
              </a:rPr>
              <a:t>Human Trafficking</a:t>
            </a:r>
            <a:endParaRPr b="0" lang="en-US" sz="3600" spc="-1" strike="noStrike">
              <a:solidFill>
                <a:srgbClr val="000000"/>
              </a:solidFill>
              <a:latin typeface="Times New Roman"/>
            </a:endParaRPr>
          </a:p>
        </p:txBody>
      </p:sp>
      <p:sp>
        <p:nvSpPr>
          <p:cNvPr id="67"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th #3: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Trafficking Is Crime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secuted Only at Federal Level</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yths Associated with </a:t>
            </a:r>
            <a:br>
              <a:rPr sz="3600"/>
            </a:br>
            <a:r>
              <a:rPr b="1" lang="en-US" sz="3600" spc="-1" strike="noStrike">
                <a:solidFill>
                  <a:srgbClr val="000000"/>
                </a:solidFill>
                <a:latin typeface="Arial"/>
              </a:rPr>
              <a:t>Human Trafficking</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th #4: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Participants Involved in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Trafficking Are Criminal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fficking Victims Protection Act (TVPA)</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igned into law October 200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or to 2000, no comprehensive law to protect victims of trafficking or to prosecute traffick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de human trafficking Federal crim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als of law:</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Prevent human trafficking overse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Increase prosecution of human traffickers in United Sta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Protect victims, provide Federal and state assistance to victi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fficking Victims Protection Act</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addresses three key ar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en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ublic awareness and education</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 visa, certification, benefits and services to help victims rebuild their live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ecu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 law enforcement tools and efforts</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VPA Affects What You Do</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new laws that criminalize trafficking regarding slavery, involuntary servitude, peonage or forced labor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s prosecution where non-violent coercion used to force victims to work in belief they would be subject to serious harm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s prosecution where victim's service compelled by confiscation of documents such as passports or birth certificates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prison terms for all slavery violations from 10 years to 20 years; adds life imprisonment where violation involves death, kidnapping, or sexual abuse of victim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urts to order restitution, forfeiture of assets upon conviction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victims to seek witness protection, other types of assistance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s prosecutors and agents new tools to get legal immigration status for victims of trafficking during investigation, prosecution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VPA Affects What You D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traffickers break state laws such a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rd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idnap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ter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saul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xual batter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lse imprison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stitu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moting prostitutio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VPA Reauthorized in 2003</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government authorized more than $200 million to continue domestic fight against human trafficking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aw strengthens legal elements of TVP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x and labor trafficking now considered offenses under RICO statu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courages nation’s 21,000 law enforcement agencies to investigate cases of traffic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Crime </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concerns for law enforcement:</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when crimes of trafficking taking pla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and distinguish between victims and perpetra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op crimes of trafficking in prog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age victims of trafficking as witness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ure evidence of trafficking for prosecutions and trial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Crime</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83"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verbal crime scene clues to link to human traffick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conditions of potential victi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ysical abu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orking condi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triction of movement indicato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ehavior indicators of severe dependenc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ssession of other’s legal document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ssession of false or fraudulent document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sistence on providing information to officer</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Crime </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law enforcers most likely first to come upon crimes of human trafficking</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beneath surface of other crimes and scenarios to expose crimes of human trafficking:</a:t>
            </a:r>
            <a:endParaRPr b="0" lang="en-US" sz="28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stitution rings </a:t>
            </a:r>
            <a:endParaRPr b="0" lang="en-US" sz="2200" spc="-1" strike="noStrike">
              <a:solidFill>
                <a:srgbClr val="000000"/>
              </a:solidFill>
              <a:latin typeface="Times New Roman"/>
            </a:endParaRPr>
          </a:p>
          <a:p>
            <a:pPr lvl="1" marL="6984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brothels, escort services, massage parlors)</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rnography</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llegal operations of massage parlors, strip clubs</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omestic abuse</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Vice raids involving foreign nationals</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rimes involving immigrant children with no guardia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Overview</a:t>
            </a:r>
            <a:endParaRPr b="0" lang="en-US" sz="3600" spc="-1" strike="noStrike">
              <a:solidFill>
                <a:srgbClr val="000000"/>
              </a:solidFill>
              <a:latin typeface="Times New Roman"/>
            </a:endParaRPr>
          </a:p>
        </p:txBody>
      </p:sp>
      <p:sp>
        <p:nvSpPr>
          <p:cNvPr id="51"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uman traffick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crime of human traffick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 with victims of human traffick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local law enforce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succes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Crime </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of control and lack of ability to move freely or leave jo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ises or other signs of physical abu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e fear or depress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nglish speak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 arrival from Asia, Latin America, Eastern Europe, Canada, Africa, Ind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ID or immigration docu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ctims of Trafficking </a:t>
            </a:r>
            <a:br>
              <a:rPr sz="3600"/>
            </a:br>
            <a:r>
              <a:rPr b="1" lang="en-US" sz="3600" spc="-1" strike="noStrike">
                <a:solidFill>
                  <a:srgbClr val="000000"/>
                </a:solidFill>
                <a:latin typeface="Arial"/>
              </a:rPr>
              <a:t>and Their Need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re are four general areas of victim need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mmediate assistance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ousing, food, medical, safety and security, language interpretation and legal service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ntal health assistance</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unseling</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come assistance</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ash, living assistance</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gal statu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 visa, immigration, certification</a:t>
            </a:r>
            <a:endParaRPr b="0" lang="en-US" sz="24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unicating with </a:t>
            </a:r>
            <a:br>
              <a:rPr sz="3600"/>
            </a:br>
            <a:r>
              <a:rPr b="1" lang="en-US" sz="3600" spc="-1" strike="noStrike">
                <a:solidFill>
                  <a:srgbClr val="000000"/>
                </a:solidFill>
                <a:latin typeface="Arial"/>
              </a:rPr>
              <a:t>Victims of Human Trafficking</a:t>
            </a:r>
            <a:endParaRPr b="0" lang="en-US" sz="3600" spc="-1" strike="noStrike">
              <a:solidFill>
                <a:srgbClr val="000000"/>
              </a:solidFill>
              <a:latin typeface="Times New Roman"/>
            </a:endParaRPr>
          </a:p>
        </p:txBody>
      </p:sp>
      <p:sp>
        <p:nvSpPr>
          <p:cNvPr id="91"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deportatio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Identify as Victim</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ust of law enforcemen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ware of rights</a:t>
            </a:r>
            <a:endParaRPr b="0" lang="en-US" sz="2400" spc="-1" strike="noStrike">
              <a:solidFill>
                <a:srgbClr val="000000"/>
              </a:solidFill>
              <a:latin typeface="Times New Roman"/>
            </a:endParaRPr>
          </a:p>
        </p:txBody>
      </p:sp>
      <p:sp>
        <p:nvSpPr>
          <p:cNvPr id="92" name="PlaceHolder 3"/>
          <p:cNvSpPr>
            <a:spLocks noGrp="1"/>
          </p:cNvSpPr>
          <p:nvPr>
            <p:ph/>
          </p:nvPr>
        </p:nvSpPr>
        <p:spPr>
          <a:xfrm>
            <a:off x="4343040" y="1371240"/>
            <a:ext cx="441972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VPA authorizes special visas and other forms of immigration relief to certain to trafficking victim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 are a victim, not a criminal.  What is happening to you is wrong.</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can help get you what you need.  We can protect you.  You can trust u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 have rights.  You have the right to live without being abused.</a:t>
            </a:r>
            <a:endParaRPr b="0" lang="en-US" sz="2000" spc="-1" strike="noStrike">
              <a:solidFill>
                <a:srgbClr val="000000"/>
              </a:solidFill>
              <a:latin typeface="Times New Roman"/>
            </a:endParaRPr>
          </a:p>
        </p:txBody>
      </p:sp>
      <p:sp>
        <p:nvSpPr>
          <p:cNvPr id="93" name=""/>
          <p:cNvSpPr/>
          <p:nvPr/>
        </p:nvSpPr>
        <p:spPr>
          <a:xfrm>
            <a:off x="3809880" y="1600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286000" y="2819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24080" y="41148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57600" y="5410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Victims of Trafficking</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 for Victims of Traffick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get he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you live, eat and slee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owe someone mone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omeone keeping your legal/travel docume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you threatened if you tried to leav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your family been threate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you ever physically abus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you ever forced to stay in one pla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you afraid of?</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Role as Local </a:t>
            </a:r>
            <a:br>
              <a:rPr sz="3600"/>
            </a:br>
            <a:r>
              <a:rPr b="1" lang="en-US" sz="3600" spc="-1" strike="noStrike">
                <a:solidFill>
                  <a:srgbClr val="000000"/>
                </a:solidFill>
                <a:latin typeface="Arial"/>
              </a:rPr>
              <a:t>Law Enforcement Officer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05120"/>
            <a:ext cx="7772400" cy="3962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doing what you’re do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closer look – beneath surfa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build and prosecute crimes at state leve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e with district attorneys, social services and Federal authorities if case becomes Feder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a:t>
            </a:r>
            <a:r>
              <a:rPr b="1" lang="en-US" sz="2400" spc="-1" strike="noStrike">
                <a:solidFill>
                  <a:srgbClr val="000000"/>
                </a:solidFill>
                <a:latin typeface="Arial"/>
              </a:rPr>
              <a:t>Trafficking Information and Referral Hotlin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88.3737.888</a:t>
            </a:r>
            <a:r>
              <a:rPr b="0" lang="en-US" sz="2400" spc="-1" strike="noStrike">
                <a:solidFill>
                  <a:srgbClr val="000000"/>
                </a:solidFill>
                <a:latin typeface="Arial"/>
              </a:rPr>
              <a:t>, to connect victims to services they may be eligible to receive.  For more information on human trafficking visit </a:t>
            </a:r>
            <a:r>
              <a:rPr b="0" lang="en-US" sz="2400" spc="-1" strike="noStrike" u="sng">
                <a:solidFill>
                  <a:srgbClr val="ccccff"/>
                </a:solidFill>
                <a:uFillTx/>
                <a:latin typeface="Arial"/>
                <a:hlinkClick r:id="rId1"/>
              </a:rPr>
              <a:t>www.acf.hhs.gov/trafficking</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idence of Success</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name of case study in which a victim was successfully identified and helped by local law enforc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2209320"/>
            <a:ext cx="7772400" cy="8384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 and Answers</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ing Beneath the Surface:</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 of Law Enforcement Officers in Identifying and Helping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ctims of Human Trafficking</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Trafficking: What Is I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trafficking is a form of modern-day slave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ictims of trafficking exploited for commercial sex or labor purp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ffickers use force, fraud or coercion to achieve exploitation</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fter drug dealing, human trafficking is tied with the illegal arms trade as the second largest criminal industry in the world, and it is the fastest grow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Trafficking: What Is It?</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x Trafficking: </a:t>
            </a:r>
            <a:r>
              <a:rPr b="1" lang="en-US" sz="2000" spc="-1" strike="noStrike">
                <a:solidFill>
                  <a:srgbClr val="000000"/>
                </a:solidFill>
                <a:latin typeface="Arial"/>
                <a:ea typeface="Arial"/>
              </a:rPr>
              <a:t>Commercial sex</a:t>
            </a:r>
            <a:r>
              <a:rPr b="0" lang="en-US" sz="2000" spc="-1" strike="noStrike">
                <a:solidFill>
                  <a:srgbClr val="000000"/>
                </a:solidFill>
                <a:latin typeface="Arial"/>
                <a:ea typeface="Arial"/>
              </a:rPr>
              <a:t> act induced by force, fraud or coercion, or in which person performing the act is under age 18.</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ictims can be found working in massage parlors, brothels, strip clubs, escort service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bor Trafficking: </a:t>
            </a:r>
            <a:r>
              <a:rPr b="0" lang="en-US" sz="2000" spc="-1" strike="noStrike">
                <a:solidFill>
                  <a:srgbClr val="000000"/>
                </a:solidFill>
                <a:latin typeface="Arial"/>
                <a:ea typeface="Arial"/>
              </a:rPr>
              <a:t>Using force, fraud or coercion to recruit, harbor, transport, obtain or employ a person for labor or services in </a:t>
            </a:r>
            <a:r>
              <a:rPr b="1" lang="en-US" sz="2000" spc="-1" strike="noStrike">
                <a:solidFill>
                  <a:srgbClr val="000000"/>
                </a:solidFill>
                <a:latin typeface="Arial"/>
                <a:ea typeface="Arial"/>
              </a:rPr>
              <a:t>involuntary servitude</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eonage</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debt bondage</a:t>
            </a:r>
            <a:r>
              <a:rPr b="0" lang="en-US" sz="2000" spc="-1" strike="noStrike">
                <a:solidFill>
                  <a:srgbClr val="000000"/>
                </a:solidFill>
                <a:latin typeface="Arial"/>
                <a:ea typeface="Arial"/>
              </a:rPr>
              <a:t> or </a:t>
            </a:r>
            <a:r>
              <a:rPr b="1" lang="en-US" sz="2000" spc="-1" strike="noStrike">
                <a:solidFill>
                  <a:srgbClr val="000000"/>
                </a:solidFill>
                <a:latin typeface="Arial"/>
                <a:ea typeface="Arial"/>
              </a:rPr>
              <a:t>slaver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ictims can be found in domestic situations as nannies or maids, sweatshop factories, janitorial jobs, construction sites, farm work, restaurants, panhandling</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rime of trafficking occurs with the exploitation of the victim. </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physical movement of the victim is not a requisite. </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TVPA protects both U.S. citizens and non-citizens. </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Victims</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roximately 800,000 to 900,000 victims annually trafficked across international borders worldwide; between 18,000 and 20,000 victims trafficked into United States annuall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re than half of victims trafficked into United States are children; victims are probably about equally women and m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ctims can be trafficked into the U.S. from anywhere in the world. Victims have come from, among other places, Africa, Asia, India, Latin America, Eastern Europe, Russia and Canad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y victims in the U.S. do not speak English and are unable to communicate with service providers, police, or others who might be able to help the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U.S., both citizens and non-citizens fall prey to traffick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dset of Trafficking Victims</a:t>
            </a:r>
            <a:endParaRPr b="0" lang="en-US" sz="3600" spc="-1" strike="noStrike">
              <a:solidFill>
                <a:srgbClr val="000000"/>
              </a:solidFill>
              <a:latin typeface="Times New Roman"/>
            </a:endParaRPr>
          </a:p>
        </p:txBody>
      </p:sp>
      <p:sp>
        <p:nvSpPr>
          <p:cNvPr id="59" name="PlaceHolder 2"/>
          <p:cNvSpPr>
            <a:spLocks noGrp="1"/>
          </p:cNvSpPr>
          <p:nvPr>
            <p:ph/>
          </p:nvPr>
        </p:nvSpPr>
        <p:spPr>
          <a:xfrm>
            <a:off x="304920" y="1371600"/>
            <a:ext cx="807696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equently victim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speak English and are unfamiliar with U.S. culture</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trust outsiders, especially law enforcement – fear of deportatio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self-identify as victims; often blame themselves for predica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though many victims have been beaten and/or raped, current situation may still be better than where they came from</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y be unaware of rights or may have been intentionally misinformed about rights in this country</a:t>
            </a:r>
            <a:endParaRPr b="0" lang="en-US" sz="2400" spc="-1" strike="noStrike">
              <a:solidFill>
                <a:srgbClr val="000000"/>
              </a:solidFill>
              <a:latin typeface="Times New Roman"/>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ear for safety of families in their home countries, who are often threatened by traffickers</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Are Victims Trafficked?</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219320"/>
            <a:ext cx="8077320" cy="3962160"/>
          </a:xfrm>
          <a:prstGeom prst="rect">
            <a:avLst/>
          </a:prstGeom>
          <a:noFill/>
          <a:ln w="0">
            <a:noFill/>
          </a:ln>
        </p:spPr>
        <p:txBody>
          <a:bodyPr lIns="90000" rIns="90000" tIns="46800" bIns="46800"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Force, fraud and coercion are methods used by traffickers to press victims </a:t>
            </a:r>
            <a:endParaRPr b="0" lang="en-US" sz="2400" spc="-1" strike="noStrike">
              <a:solidFill>
                <a:srgbClr val="000000"/>
              </a:solidFill>
              <a:latin typeface="Times New Roman"/>
            </a:endParaRPr>
          </a:p>
          <a:p>
            <a:pPr marL="27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o lives of servitude, abuse</a:t>
            </a:r>
            <a:endParaRPr b="0" lang="en-US" sz="2400" spc="-1" strike="noStrike">
              <a:solidFill>
                <a:srgbClr val="000000"/>
              </a:solidFill>
              <a:latin typeface="Times New Roman"/>
            </a:endParaRPr>
          </a:p>
          <a:p>
            <a:pPr marL="27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a:t>
            </a:r>
            <a:r>
              <a:rPr b="0" lang="en-US" sz="2400" spc="-1" strike="noStrike">
                <a:solidFill>
                  <a:srgbClr val="000000"/>
                </a:solidFill>
                <a:latin typeface="Arial"/>
              </a:rPr>
              <a:t> Rape, beatings, confinement</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ud:</a:t>
            </a:r>
            <a:r>
              <a:rPr b="0" lang="en-US" sz="2400" spc="-1" strike="noStrike">
                <a:solidFill>
                  <a:srgbClr val="000000"/>
                </a:solidFill>
                <a:latin typeface="Arial"/>
              </a:rPr>
              <a:t> Includes false and deceptive offers of employment, marriage, better life</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ercion:</a:t>
            </a:r>
            <a:r>
              <a:rPr b="0" lang="en-US" sz="2400" spc="-1" strike="noStrike">
                <a:solidFill>
                  <a:srgbClr val="000000"/>
                </a:solidFill>
                <a:latin typeface="Arial"/>
              </a:rPr>
              <a:t> T</a:t>
            </a:r>
            <a:r>
              <a:rPr b="0" lang="en-US" sz="2400" spc="-1" strike="noStrike">
                <a:solidFill>
                  <a:srgbClr val="000000"/>
                </a:solidFill>
                <a:latin typeface="Arial Unicode MS"/>
                <a:ea typeface="Times New Roman"/>
              </a:rPr>
              <a:t>hreats of serious harm to, or physical restraint of, any person; any scheme, plan or pattern intended to cause victims to believe that failure to perform an act would result in restraint against them; or the abuse or threatened abuse of the legal process.</a:t>
            </a:r>
            <a:endParaRPr b="0" lang="en-US" sz="2400" spc="-1" strike="noStrike">
              <a:solidFill>
                <a:srgbClr val="000000"/>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yths Associated with </a:t>
            </a:r>
            <a:br>
              <a:rPr sz="3600"/>
            </a:br>
            <a:r>
              <a:rPr b="1" lang="en-US" sz="3600" spc="-1" strike="noStrike">
                <a:solidFill>
                  <a:srgbClr val="000000"/>
                </a:solidFill>
                <a:latin typeface="Arial"/>
              </a:rPr>
              <a:t>Human Trafficking</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th #1: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Prostitutes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 Willing Participant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yths Associated with </a:t>
            </a:r>
            <a:br>
              <a:rPr sz="3600"/>
            </a:br>
            <a:r>
              <a:rPr b="1" lang="en-US" sz="3600" spc="-1" strike="noStrike">
                <a:solidFill>
                  <a:srgbClr val="000000"/>
                </a:solidFill>
                <a:latin typeface="Arial"/>
              </a:rPr>
              <a:t>Human Trafficking</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th #2: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Immigrants Smuggled into the United States Enter Willingly</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4:58:51Z</dcterms:created>
  <dc:creator>Meredith Isola</dc:creator>
  <dc:description/>
  <dc:language>en-US</dc:language>
  <cp:lastModifiedBy>dastill</cp:lastModifiedBy>
  <dcterms:modified xsi:type="dcterms:W3CDTF">2004-04-09T15:39:41Z</dcterms:modified>
  <cp:revision>2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41180065</vt:r8>
  </property>
  <property fmtid="{D5CDD505-2E9C-101B-9397-08002B2CF9AE}" pid="3" name="_AuthorEmail">
    <vt:lpwstr>EMcGroarty@acf.hhs.gov</vt:lpwstr>
  </property>
  <property fmtid="{D5CDD505-2E9C-101B-9397-08002B2CF9AE}" pid="4" name="_AuthorEmailDisplayName">
    <vt:lpwstr>McGroarty, Emmett (ACF)</vt:lpwstr>
  </property>
  <property fmtid="{D5CDD505-2E9C-101B-9397-08002B2CF9AE}" pid="5" name="_EmailSubject">
    <vt:lpwstr>the ss id page is great but</vt:lpwstr>
  </property>
  <property fmtid="{D5CDD505-2E9C-101B-9397-08002B2CF9AE}" pid="6" name="_PreviousAdHocReviewCycleID">
    <vt:r8>767136827</vt:r8>
  </property>
</Properties>
</file>